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49.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31.png" ContentType="image/png"/>
  <Override PartName="/ppt/media/image68.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66E5C-9C81-4C89-9183-2F5454962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DF41F-C367-40BB-A2B2-77D9B0A82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76145-2C41-496B-B422-1247F6E80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61D64-F2D7-41E6-A730-BEDBDE22C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126D9-8291-4692-87C9-9C468090E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DE118-90FD-41A8-9DB4-623CC6A32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E825A-953F-48EB-BDA0-4B66F3AE2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34DB7-96E4-4477-B4A6-36C52990C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94E86-7C80-4E16-887F-BA9A3E49A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DCF6-5A7B-4C4F-ABB8-199CB5BA6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1569-377B-4315-A77F-5EFE6D097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C44CB-4112-4DAB-893C-D5588225E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3AA8-7EE9-4734-9827-2DAC1A10D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 name="lcselogo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212760"/>
            <a:ext cx="8839080" cy="621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The Wave Table Program:</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Designed to duplicate a physically realizable experiment — a square table of shallow water with waves generated by moving one side back and forth.</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Objects of different shapes which change the water depth by different amounts may be introduced.</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A graph of the wave amplitude along a chosen horizontal line may be displayed dynamic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trce0011"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trce0012"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trce0013"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trce0014"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trce0015"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trce0016"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trce0017"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trce0018"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trce0019"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trce0020"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76320"/>
            <a:ext cx="8839080" cy="6747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The Scienc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Wave propagation in 2-D observed.</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Wave reflection.</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Wave diffraction.</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Wave refraction.</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Focusing of wave energy by lens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Focusing of wave energy by curved mirror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All can be directly observed;  you can actually see the wa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14200"/>
            <a:ext cx="8839080" cy="621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Student Actively Involved:</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is application is interactive.  The student does not passively observe it;  he or she designs the experiment, runs it, refines it, runs it again, . . .</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result of the experiment can be saved and shown as a movie to another student, or to the instructor.</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selected graphical output is quantitative, while the wave displays are more qualita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52280"/>
            <a:ext cx="8839080" cy="570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Computational Mathematic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is program represents the 2-D Laplacian operator in the wave equation</a:t>
            </a:r>
            <a:br>
              <a:rPr sz="3200"/>
            </a:br>
            <a:r>
              <a:rPr b="0" lang="en-US" sz="3200" spc="-1" strike="noStrike">
                <a:solidFill>
                  <a:srgbClr val="000000"/>
                </a:solidFill>
                <a:latin typeface="Elephant"/>
              </a:rPr>
              <a:t>	</a:t>
            </a:r>
            <a:r>
              <a:rPr b="0" lang="en-US" sz="3200" spc="-1" strike="noStrike">
                <a:solidFill>
                  <a:srgbClr val="000000"/>
                </a:solidFill>
                <a:latin typeface="Elephant"/>
              </a:rPr>
              <a:t>	</a:t>
            </a:r>
            <a:r>
              <a:rPr b="0" lang="en-US" sz="3200" spc="-1" strike="noStrike">
                <a:solidFill>
                  <a:srgbClr val="000000"/>
                </a:solidFill>
                <a:latin typeface="Elephant"/>
              </a:rPr>
              <a:t>	</a:t>
            </a:r>
            <a:r>
              <a:rPr b="0" lang="en-US" sz="3200" spc="-1" strike="noStrike">
                <a:solidFill>
                  <a:srgbClr val="000000"/>
                </a:solidFill>
                <a:latin typeface="Symbol"/>
                <a:ea typeface="Symbol"/>
              </a:rPr>
              <a:t></a:t>
            </a:r>
            <a:r>
              <a:rPr b="0" lang="en-US" sz="3200" spc="-1" strike="noStrike" baseline="30000">
                <a:solidFill>
                  <a:srgbClr val="000000"/>
                </a:solidFill>
                <a:latin typeface="Elephant"/>
              </a:rPr>
              <a:t>2</a:t>
            </a:r>
            <a:r>
              <a:rPr b="0" lang="en-US" sz="3200" spc="-1" strike="noStrike">
                <a:solidFill>
                  <a:srgbClr val="000000"/>
                </a:solidFill>
                <a:latin typeface="Elephant"/>
              </a:rPr>
              <a:t>a/</a:t>
            </a:r>
            <a:r>
              <a:rPr b="0" lang="en-US" sz="3200" spc="-1" strike="noStrike">
                <a:solidFill>
                  <a:srgbClr val="000000"/>
                </a:solidFill>
                <a:latin typeface="Symbol"/>
                <a:ea typeface="Symbol"/>
              </a:rPr>
              <a:t></a:t>
            </a:r>
            <a:r>
              <a:rPr b="0" lang="en-US" sz="3200" spc="-1" strike="noStrike">
                <a:solidFill>
                  <a:srgbClr val="000000"/>
                </a:solidFill>
                <a:latin typeface="Elephant"/>
              </a:rPr>
              <a:t>t</a:t>
            </a:r>
            <a:r>
              <a:rPr b="0" lang="en-US" sz="3200" spc="-1" strike="noStrike" baseline="30000">
                <a:solidFill>
                  <a:srgbClr val="000000"/>
                </a:solidFill>
                <a:latin typeface="Elephant"/>
              </a:rPr>
              <a:t>2</a:t>
            </a:r>
            <a:r>
              <a:rPr b="0" lang="en-US" sz="3200" spc="-1" strike="noStrike">
                <a:solidFill>
                  <a:srgbClr val="000000"/>
                </a:solidFill>
                <a:latin typeface="Elephant"/>
              </a:rPr>
              <a:t>  =  c</a:t>
            </a:r>
            <a:r>
              <a:rPr b="0" lang="en-US" sz="3200" spc="-1" strike="noStrike" baseline="30000">
                <a:solidFill>
                  <a:srgbClr val="000000"/>
                </a:solidFill>
                <a:latin typeface="Elephant"/>
              </a:rPr>
              <a:t>2</a:t>
            </a:r>
            <a:r>
              <a:rPr b="0" lang="en-US" sz="3200" spc="-1" strike="noStrike">
                <a:solidFill>
                  <a:srgbClr val="000000"/>
                </a:solidFill>
                <a:latin typeface="Elephant"/>
              </a:rPr>
              <a:t>  </a:t>
            </a:r>
            <a:r>
              <a:rPr b="0" lang="en-US" sz="3200" spc="-1" strike="noStrike">
                <a:solidFill>
                  <a:srgbClr val="000000"/>
                </a:solidFill>
                <a:latin typeface="Symbol"/>
                <a:ea typeface="Symbol"/>
              </a:rPr>
              <a:t></a:t>
            </a:r>
            <a:r>
              <a:rPr b="0" lang="en-US" sz="3200" spc="-1" strike="noStrike" baseline="30000">
                <a:solidFill>
                  <a:srgbClr val="000000"/>
                </a:solidFill>
                <a:latin typeface="Elephant"/>
              </a:rPr>
              <a:t>2</a:t>
            </a:r>
            <a:r>
              <a:rPr b="0" lang="en-US" sz="3200" spc="-1" strike="noStrike">
                <a:solidFill>
                  <a:srgbClr val="000000"/>
                </a:solidFill>
                <a:latin typeface="Elephant"/>
              </a:rPr>
              <a:t>a</a:t>
            </a:r>
            <a:br>
              <a:rPr sz="3200"/>
            </a:br>
            <a:r>
              <a:rPr b="0" lang="en-US" sz="3200" spc="-1" strike="noStrike">
                <a:solidFill>
                  <a:srgbClr val="000000"/>
                </a:solidFill>
                <a:latin typeface="Elephant"/>
              </a:rPr>
              <a:t>by an extremely simple 5-point difference formula.  The designated objects alter the value of the local wave speed  c  and each of  256</a:t>
            </a:r>
            <a:r>
              <a:rPr b="0" lang="en-US" sz="3200" spc="-1" strike="noStrike" baseline="30000">
                <a:solidFill>
                  <a:srgbClr val="000000"/>
                </a:solidFill>
                <a:latin typeface="Elephant"/>
              </a:rPr>
              <a:t>2</a:t>
            </a:r>
            <a:r>
              <a:rPr b="0" lang="en-US" sz="3200" spc="-1" strike="noStrike">
                <a:solidFill>
                  <a:srgbClr val="000000"/>
                </a:solidFill>
                <a:latin typeface="Elephant"/>
              </a:rPr>
              <a:t>  uniform grid points is updated on each time step by about 5 lines of Fortran code.  The program runs in real time and gives graphic output as it execu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14200"/>
            <a:ext cx="8839080" cy="647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Specific Exampl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Screen dumps saved from a run with a high frequency wave input, two completely reflecting rectangular objects, and a refracting, lens-shaped object are shown on the following slid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first slide shows the problem set up.</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dialog box at the upper left is shown defining the lens-shaped object.</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graphical data will correspond to the horizontal dashed 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wave.01"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wave.02"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wave.03"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wave.04"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wave.05"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0"/>
            <a:ext cx="8839080" cy="744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Bauhaus 93"/>
              </a:rPr>
              <a:t>Laboratory for Computational Science &amp; Engineering:   High School Outreach Program</a:t>
            </a: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Program Goal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Introduce exposure to computational science in the high school curriculum.</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arget talented high school students with an interest in science and/or computing.</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Construct instructional materials that couple computationally intensive applications to graphical output through a point-and-click user interface accessible to stud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wave.06"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wave.07"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wave.08"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wave.09"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wave.10"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wave.11"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wave.12" descr=""/>
          <p:cNvPicPr/>
          <p:nvPr/>
        </p:nvPicPr>
        <p:blipFill>
          <a:blip r:embed="rId1"/>
          <a:stretch/>
        </p:blipFill>
        <p:spPr>
          <a:xfrm>
            <a:off x="0" y="414360"/>
            <a:ext cx="9144000" cy="602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198360"/>
            <a:ext cx="8839080" cy="647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The Heat Transfer Program:</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Designed to simulate a problem of real concern for Minnesotans — heat transfer in a hous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A 2-D house floor plan is constructed by placing rectangular objects of selected materials onto a square region.</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An outside temperature on each side of the house is specified.</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Regions of constant temperature (heat registers, air conditioners) are specifi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76320"/>
            <a:ext cx="8839080" cy="672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The Scienc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Heat transfer in 2-D is observed.</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Conduction front propagation and spreading.</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Approach to asymptotic steady temperature distribution.</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Behavior of materials with different thermal conductiviti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Variation of thermal insulation with material layer thickness.  Windows versus walls.  Brick versus w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214200"/>
            <a:ext cx="8839080" cy="621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Student Actively Involved:</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is application is interactive.  The student does not passively observe it;  he or she designs the experiment, runs it, refines it, runs it again, . . .</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result of the experiment can be saved and shown as a movie to another student, or to the instructor.</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is application is computationally intensive.  Runs are expensive and are therefore must be planned thoughtfu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228600"/>
            <a:ext cx="8839080" cy="598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Program Leverag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Build on course materials developed for Woodward’s undergraduate-level course in computational methods for the physical scienc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Leverage computing and visualization expertise at the LCS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Leverage LCSE’s close connection with SGI.</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Leverage location of LCSE in the midst of Minnesota’s major metro ar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152280"/>
            <a:ext cx="8839080" cy="619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Computational Mathematic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is program represents the 2-D Laplacian operator in the heat equation</a:t>
            </a:r>
            <a:br>
              <a:rPr sz="3200"/>
            </a:br>
            <a:r>
              <a:rPr b="0" lang="en-US" sz="3200" spc="-1" strike="noStrike">
                <a:solidFill>
                  <a:srgbClr val="000000"/>
                </a:solidFill>
                <a:latin typeface="Elephant"/>
              </a:rPr>
              <a:t>	</a:t>
            </a:r>
            <a:r>
              <a:rPr b="0" lang="en-US" sz="3200" spc="-1" strike="noStrike">
                <a:solidFill>
                  <a:srgbClr val="000000"/>
                </a:solidFill>
                <a:latin typeface="Elephant"/>
              </a:rPr>
              <a:t>	</a:t>
            </a:r>
            <a:r>
              <a:rPr b="0" lang="en-US" sz="3200" spc="-1" strike="noStrike">
                <a:solidFill>
                  <a:srgbClr val="000000"/>
                </a:solidFill>
                <a:latin typeface="Elephant"/>
              </a:rPr>
              <a:t>	</a:t>
            </a:r>
            <a:r>
              <a:rPr b="0" lang="en-US" sz="3200" spc="-1" strike="noStrike">
                <a:solidFill>
                  <a:srgbClr val="000000"/>
                </a:solidFill>
                <a:latin typeface="Symbol"/>
                <a:ea typeface="Symbol"/>
              </a:rPr>
              <a:t></a:t>
            </a:r>
            <a:r>
              <a:rPr b="0" lang="en-US" sz="3200" spc="-1" strike="noStrike">
                <a:solidFill>
                  <a:srgbClr val="000000"/>
                </a:solidFill>
                <a:latin typeface="Elephant"/>
              </a:rPr>
              <a:t>T/</a:t>
            </a:r>
            <a:r>
              <a:rPr b="0" lang="en-US" sz="3200" spc="-1" strike="noStrike">
                <a:solidFill>
                  <a:srgbClr val="000000"/>
                </a:solidFill>
                <a:latin typeface="Symbol"/>
                <a:ea typeface="Symbol"/>
              </a:rPr>
              <a:t></a:t>
            </a:r>
            <a:r>
              <a:rPr b="0" lang="en-US" sz="3200" spc="-1" strike="noStrike">
                <a:solidFill>
                  <a:srgbClr val="000000"/>
                </a:solidFill>
                <a:latin typeface="Elephant"/>
              </a:rPr>
              <a:t>t  =   </a:t>
            </a:r>
            <a:r>
              <a:rPr b="0" lang="en-US" sz="3200" spc="-1" strike="noStrike">
                <a:solidFill>
                  <a:srgbClr val="000000"/>
                </a:solidFill>
                <a:latin typeface="Symbol"/>
                <a:ea typeface="Symbol"/>
              </a:rPr>
              <a:t></a:t>
            </a:r>
            <a:r>
              <a:rPr b="0" lang="en-US" sz="3200" spc="-1" strike="noStrike">
                <a:solidFill>
                  <a:srgbClr val="000000"/>
                </a:solidFill>
                <a:latin typeface="Elephant"/>
              </a:rPr>
              <a:t>  </a:t>
            </a:r>
            <a:r>
              <a:rPr b="0" lang="en-US" sz="3200" spc="-1" strike="noStrike">
                <a:solidFill>
                  <a:srgbClr val="000000"/>
                </a:solidFill>
                <a:latin typeface="Symbol"/>
                <a:ea typeface="Symbol"/>
              </a:rPr>
              <a:t></a:t>
            </a:r>
            <a:r>
              <a:rPr b="0" lang="en-US" sz="3200" spc="-1" strike="noStrike" baseline="30000">
                <a:solidFill>
                  <a:srgbClr val="000000"/>
                </a:solidFill>
                <a:latin typeface="Elephant"/>
              </a:rPr>
              <a:t>2</a:t>
            </a:r>
            <a:r>
              <a:rPr b="0" lang="en-US" sz="3200" spc="-1" strike="noStrike">
                <a:solidFill>
                  <a:srgbClr val="000000"/>
                </a:solidFill>
                <a:latin typeface="Elephant"/>
              </a:rPr>
              <a:t>T</a:t>
            </a:r>
            <a:br>
              <a:rPr sz="3200"/>
            </a:br>
            <a:r>
              <a:rPr b="0" lang="en-US" sz="3200" spc="-1" strike="noStrike">
                <a:solidFill>
                  <a:srgbClr val="000000"/>
                </a:solidFill>
                <a:latin typeface="Elephant"/>
              </a:rPr>
              <a:t>by an extremely simple 5-point difference formula.  The designated objects alter the value of the local conductivity  </a:t>
            </a:r>
            <a:r>
              <a:rPr b="0" lang="en-US" sz="3200" spc="-1" strike="noStrike">
                <a:solidFill>
                  <a:srgbClr val="000000"/>
                </a:solidFill>
                <a:latin typeface="Symbol"/>
                <a:ea typeface="Symbol"/>
              </a:rPr>
              <a:t></a:t>
            </a:r>
            <a:r>
              <a:rPr b="0" lang="en-US" sz="3200" spc="-1" strike="noStrike">
                <a:solidFill>
                  <a:srgbClr val="000000"/>
                </a:solidFill>
                <a:latin typeface="Elephant"/>
              </a:rPr>
              <a:t>,  and each of  512</a:t>
            </a:r>
            <a:r>
              <a:rPr b="0" lang="en-US" sz="3200" spc="-1" strike="noStrike" baseline="30000">
                <a:solidFill>
                  <a:srgbClr val="000000"/>
                </a:solidFill>
                <a:latin typeface="Elephant"/>
              </a:rPr>
              <a:t>2</a:t>
            </a:r>
            <a:r>
              <a:rPr b="0" lang="en-US" sz="3200" spc="-1" strike="noStrike">
                <a:solidFill>
                  <a:srgbClr val="000000"/>
                </a:solidFill>
                <a:latin typeface="Elephant"/>
              </a:rPr>
              <a:t>  uniform grid points is updated on each time step by about 5 lines of Fortran code.  The program runs in the background, generating image files for subsequent movie ani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214200"/>
            <a:ext cx="8839080" cy="647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Specific Exampl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Images saved from a run for a fairly elaborate 2-D house are shown on the following slid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first slide shows the material dialog box used for problem set up.</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second slide shows the blank house layout area with outside temperature selector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fifth slide shows the finished house, then the heat transfer movie fol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aaaa0001" descr=""/>
          <p:cNvPicPr/>
          <p:nvPr/>
        </p:nvPicPr>
        <p:blipFill>
          <a:blip r:embed="rId1"/>
          <a:stretch/>
        </p:blipFill>
        <p:spPr>
          <a:xfrm>
            <a:off x="685800" y="-9360"/>
            <a:ext cx="7772400" cy="687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aaaa0002" descr=""/>
          <p:cNvPicPr/>
          <p:nvPr/>
        </p:nvPicPr>
        <p:blipFill>
          <a:blip r:embed="rId1"/>
          <a:stretch/>
        </p:blipFill>
        <p:spPr>
          <a:xfrm>
            <a:off x="685800" y="-9360"/>
            <a:ext cx="7772400" cy="687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aaaa0003" descr=""/>
          <p:cNvPicPr/>
          <p:nvPr/>
        </p:nvPicPr>
        <p:blipFill>
          <a:blip r:embed="rId1"/>
          <a:stretch/>
        </p:blipFill>
        <p:spPr>
          <a:xfrm>
            <a:off x="685800" y="-9360"/>
            <a:ext cx="7772400" cy="687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aaaa0004" descr=""/>
          <p:cNvPicPr/>
          <p:nvPr/>
        </p:nvPicPr>
        <p:blipFill>
          <a:blip r:embed="rId1"/>
          <a:stretch/>
        </p:blipFill>
        <p:spPr>
          <a:xfrm>
            <a:off x="685800" y="-9360"/>
            <a:ext cx="7772400" cy="68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aaaa0005" descr=""/>
          <p:cNvPicPr/>
          <p:nvPr/>
        </p:nvPicPr>
        <p:blipFill>
          <a:blip r:embed="rId1"/>
          <a:stretch/>
        </p:blipFill>
        <p:spPr>
          <a:xfrm>
            <a:off x="685800" y="-9360"/>
            <a:ext cx="7772400" cy="68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Temp000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Temp002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emp003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228600"/>
            <a:ext cx="8839080" cy="647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High School Teacher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Identify talented and motivated teacher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Bring teachers into the LCSE for 5 weeks each summer to introduce them to real scientific research environment and to cement personal relationships they can draw upon during the academic year.</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Involve the teachers in the choice of instructional software and the design of the user interfac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eachers test materials in their cla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Temp004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Temp0045"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Temp005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Temp0055"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Temp006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Temp007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Temp009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emp016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Temp025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Temp0500" descr=""/>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228600"/>
            <a:ext cx="8839080" cy="744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High School Student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high school teachers identify outstanding, talented, and motivated students to bring with them into the LCSE for 10 weeks during the summer.</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students are involved in the design of the user interfaces to the instructional softwar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students learn C programming so that they can modify/improve the user interfac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students help the teachers set up, maintain, and operate instructional lab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212760"/>
            <a:ext cx="8839080" cy="647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The Vibrating String Program:</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Designed to simulate a physical system that can be realized in the lab — a vibrating string (a slinky will also do).</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A set of points along the string are selected with mouse clicks and dragged up or down to pluck the string.</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Sliders allow the string tension, mass per unit length, and transverse velocity to be specified at each selected point.</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Intermediate values are interpo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4920" y="76320"/>
            <a:ext cx="8839080" cy="672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The Scienc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Wave propagation in 1-D is observed.</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Initial velocities allow modes travelling purely in one direction to be set up.</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String tension and density determine local wave propagation speed.</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Wave transmission and reflection at changes in string density and tension.</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Impedance matching to minimize wave reflection, via gradual changes rather than sudden ones in density or ten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152280"/>
            <a:ext cx="8839080" cy="67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Student Actively Involved:</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is application is interactive.  The student does not passively observe it;  he or she designs the experiment, runs it, refines it, runs it again, . . .</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result of the experiment can be saved and shown as a movie to another student, or to the instructor.</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default number of 2000 mass points connected by 1999 springs can be reduced, and convergence to continuous string behavior can be observ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152280"/>
            <a:ext cx="8839080" cy="668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Computational Mathematic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is program represents the string by a discrete mechanical model consisting of N mass points interconnected by N-1 springs.  No calculus is needed, and the equations of motion are trivial (but many).  Only Hooke’s law relating the force linearly to spring extension is needed, and of course  F=ma.  A trivial leap-frog numerical scheme is imple-mented, with numerical noise damping.  The Fortran code is very simple, but time steps cannot exceed Courant lim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76320"/>
            <a:ext cx="8839080" cy="67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Specific Exampl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Images saved from a run for plucking the string at 9 points are shown on the following slid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initial transverse velocities are 0, so each triangular disturbance launches 2 identical half-amplitude signals traveling in opposite direction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se waves all pass through each other, since the equations are linear because the transverse displacements are assum-ed small (and exaggerated in plo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stri000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stri000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stri000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stri000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stri000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28600"/>
            <a:ext cx="8839080" cy="695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High School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high schools are large, public high schools with diverse student bodi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high schools are committed to the program, and therefore support the teachers with lab space and equipment.</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high schools support the teachers by allowing them to develop new courses that grow out of their LCSE program experienc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he high schools participate in other advanced math and science progra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stri000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stri0008"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stri0009"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stri001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stri001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stri001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stri001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stri001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stri001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stri001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228600"/>
            <a:ext cx="8839080" cy="621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Program Component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Development of computer programs for instructional use.</a:t>
            </a:r>
            <a:br>
              <a:rPr sz="3200"/>
            </a:br>
            <a:r>
              <a:rPr b="0" i="1" lang="en-US" sz="3200" spc="-1" strike="noStrike">
                <a:solidFill>
                  <a:srgbClr val="000000"/>
                </a:solidFill>
                <a:latin typeface="Bauhaus 93"/>
              </a:rPr>
              <a:t>Leveraged from Woodward’s undergraduate course development work.</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Development of user interfaces to these programs.</a:t>
            </a:r>
            <a:br>
              <a:rPr sz="3200"/>
            </a:br>
            <a:r>
              <a:rPr b="0" i="1" lang="en-US" sz="3200" spc="-1" strike="noStrike">
                <a:solidFill>
                  <a:srgbClr val="000000"/>
                </a:solidFill>
                <a:latin typeface="Bauhaus 93"/>
              </a:rPr>
              <a:t>Performed by undergraduate student employe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Development of written instructional materials.   </a:t>
            </a:r>
            <a:r>
              <a:rPr b="0" i="1" lang="en-US" sz="3200" spc="-1" strike="noStrike">
                <a:solidFill>
                  <a:srgbClr val="000000"/>
                </a:solidFill>
                <a:latin typeface="Bauhaus 93"/>
              </a:rPr>
              <a:t>LCSE postdoc part-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stri001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stri0018"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stri0019"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stri002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04920" y="212760"/>
            <a:ext cx="8839080" cy="647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The Planetary System Program:</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Designed to simulate a physical system that cannot be realized in the lab — a solar system with 3 planets, named Venus, Earth, and Mar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default is the actual 3 planets, begun at points on their actual orbit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mass of each planet can be modified by any positive factor.</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Either the planetary positions or the orbit traces are displayed dynamic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76320"/>
            <a:ext cx="8839080" cy="67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The Scienc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actual orbits of these 3 planets may be observed, but this is boring.</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One planet, say Earth, can be made more massive, in which case it will disrupt the other orbits, temporarily capturing other planets as satellites and/or ejecting them from the system.</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sensitivity of this dynamical system, when one planet is massive, to the initial conditions (the big planet’s mass) has to be seen to be believ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152280"/>
            <a:ext cx="8839080" cy="67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Student Actively Involved:</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is application is interactive.  The student does not passively observe it;  he or she designs the experiment, runs it, refines it, runs it again, . . .</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result of the experiment can be saved and shown as a movie to another student, or to the instructor.</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program can be instructed to use different numerical integration techniques, and their relative (and very different) effectiveness can be studi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04920" y="152280"/>
            <a:ext cx="8839080" cy="668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Computational Mathematic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The program uses predictor-corrector methods to advance the planets’ positions.  The forces come from Newton’s law of gravitation and F=ma.  The new position is first guessed using the present position, velocity, and acceleration only.  This “prediction” is then “corrected” by incorporating the knowledge of the force at the newly guessed position.  Without this correction step, the numerical scheme is unstable.  This scheme is really si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76320"/>
            <a:ext cx="8839080" cy="303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Elephant"/>
              </a:rPr>
              <a:t>Specific Example:</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Planet positions for the default orbits appear in the first set of slide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Planetary orbits are traced in the second set of slides for a more interesting c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hder0000" descr=""/>
          <p:cNvPicPr/>
          <p:nvPr/>
        </p:nvPicPr>
        <p:blipFill>
          <a:blip r:embed="rId1"/>
          <a:stretch/>
        </p:blipFill>
        <p:spPr>
          <a:xfrm>
            <a:off x="762120" y="-39600"/>
            <a:ext cx="7696080" cy="686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8839080" cy="744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More Program Component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Guiding of work of teachers and high school students in the LCSE in the summer.</a:t>
            </a:r>
            <a:br>
              <a:rPr sz="3200"/>
            </a:br>
            <a:r>
              <a:rPr b="0" i="1" lang="en-US" sz="3200" spc="-1" strike="noStrike">
                <a:solidFill>
                  <a:srgbClr val="000000"/>
                </a:solidFill>
                <a:latin typeface="Bauhaus 93"/>
              </a:rPr>
              <a:t>LCSE postdocs, students, and staff.</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Assistance in high school lab set up and maintenance.</a:t>
            </a:r>
            <a:br>
              <a:rPr sz="3200"/>
            </a:br>
            <a:r>
              <a:rPr b="0" i="1" lang="en-US" sz="3200" spc="-1" strike="noStrike">
                <a:solidFill>
                  <a:srgbClr val="000000"/>
                </a:solidFill>
                <a:latin typeface="Bauhaus 93"/>
              </a:rPr>
              <a:t>LCSE system manager.</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LCSE lab tours for high school student groups.</a:t>
            </a:r>
            <a:br>
              <a:rPr sz="3200"/>
            </a:br>
            <a:r>
              <a:rPr b="0" i="1" lang="en-US" sz="3200" spc="-1" strike="noStrike">
                <a:solidFill>
                  <a:srgbClr val="000000"/>
                </a:solidFill>
                <a:latin typeface="Bauhaus 93"/>
              </a:rPr>
              <a:t>LCSE staff.</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Overall program management.</a:t>
            </a:r>
            <a:br>
              <a:rPr sz="3200"/>
            </a:br>
            <a:r>
              <a:rPr b="0" i="1" lang="en-US" sz="3200" spc="-1" strike="noStrike">
                <a:solidFill>
                  <a:srgbClr val="000000"/>
                </a:solidFill>
                <a:latin typeface="Bauhaus 93"/>
              </a:rPr>
              <a:t>Ms. Julia Sytine,  LCSE Administra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lnt0001"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lnt0002"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lnt0003"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lnt0004"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lnt0005"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lnt0006"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lnt0007"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lnt0008"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lnt0009"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lnt0010"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76320"/>
            <a:ext cx="8839080" cy="67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Potential New Program Component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Summer programming course at LCSE for group of 20 high school students.</a:t>
            </a:r>
            <a:br>
              <a:rPr sz="3200"/>
            </a:br>
            <a:r>
              <a:rPr b="0" i="1" lang="en-US" sz="3200" spc="-1" strike="noStrike">
                <a:solidFill>
                  <a:srgbClr val="000000"/>
                </a:solidFill>
                <a:latin typeface="Bauhaus 93"/>
              </a:rPr>
              <a:t>Could potentially be taught by LCSE postdoc.</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Teacher training course at LCSE given for use of LCSE instructional materials.</a:t>
            </a:r>
            <a:br>
              <a:rPr sz="3200"/>
            </a:br>
            <a:r>
              <a:rPr b="0" i="1" lang="en-US" sz="3200" spc="-1" strike="noStrike">
                <a:solidFill>
                  <a:srgbClr val="000000"/>
                </a:solidFill>
                <a:latin typeface="Bauhaus 93"/>
              </a:rPr>
              <a:t>Could potentially be team taught by LCSE postdoc and high school teachers who helped develop these materials.</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uhaus 93"/>
              </a:rPr>
              <a:t>A technology fair during the academic year for computer-related projects.</a:t>
            </a:r>
            <a:br>
              <a:rPr sz="3200"/>
            </a:br>
            <a:r>
              <a:rPr b="0" i="1" lang="en-US" sz="3200" spc="-1" strike="noStrike">
                <a:solidFill>
                  <a:srgbClr val="000000"/>
                </a:solidFill>
                <a:latin typeface="Bauhaus 93"/>
              </a:rPr>
              <a:t>Could be hosted at Arlington H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trce0001"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trce0002"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trce0003"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trce0004"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trce0005"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trce0006"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trce0007"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trce0008"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trce0009"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trce0010" descr=""/>
          <p:cNvPicPr/>
          <p:nvPr/>
        </p:nvPicPr>
        <p:blipFill>
          <a:blip r:embed="rId1"/>
          <a:stretch/>
        </p:blipFill>
        <p:spPr>
          <a:xfrm>
            <a:off x="0" y="55440"/>
            <a:ext cx="9144000" cy="674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6T15:03:31Z</dcterms:created>
  <dc:creator>Paul R. Woodward</dc:creator>
  <dc:description/>
  <dc:language>en-US</dc:language>
  <cp:lastModifiedBy>Paul R. Woodward</cp:lastModifiedBy>
  <cp:lastPrinted>1999-04-16T15:54:08Z</cp:lastPrinted>
  <dcterms:modified xsi:type="dcterms:W3CDTF">1999-04-18T04:48:09Z</dcterms:modified>
  <cp:revision>8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Description of the LCSE high school program and four of the instructional software modules that have been produced through it.</vt:lpwstr>
  </property>
  <property fmtid="{D5CDD505-2E9C-101B-9397-08002B2CF9AE}" pid="13" name="OutputDir">
    <vt:lpwstr>C:\specs</vt:lpwstr>
  </property>
  <property fmtid="{D5CDD505-2E9C-101B-9397-08002B2CF9AE}" pid="14" name="ScreenSize">
    <vt:r8>3</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